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711-B4A5-45F0-A1E0-D73354C9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162-8713-475E-B51B-530ED93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6D4-597B-420A-9A8A-6262A7D3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473-6B5B-4005-9970-D149DDB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087-4AB7-459E-924B-A0DE1247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C22-E9C2-46D3-B0E2-A0538C6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6E2-D8B1-4BFE-95F8-7D4711AA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96E-6EAC-45B4-8340-044D9C98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738-D318-4A9D-B0D4-375639C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D30-459E-4704-B78E-857E2355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82C-8333-42D3-A893-87BAD8D9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E34-D1BE-4C87-B443-7EEF101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9E5-F87D-4523-94D5-7AE2EB0F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hawaii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hawaii/" TargetMode="External"/><Relationship Id="rId4" Type="http://schemas.openxmlformats.org/officeDocument/2006/relationships/hyperlink" Target="http://www.law.ou.edu/ushistory/flags/haflag.gif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law.ou.edu/hist/flags/stflagalmo.shtml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000606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Neneprintout.shtml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enchantedlearning.com/usa/states/hawaii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ff2a"/>
            </a:gs>
            <a:gs pos="100000">
              <a:srgbClr val="9afe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029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sten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676520"/>
            <a:ext cx="4952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wai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74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1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Honolu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1,275,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Union: August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59 /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Ua mau ke ea o ka aina l ka pono (The life of the land is perpetuated in righte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Aloha State / Paradise of the 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Pua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Nene (Hawaiian go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Hawaii Ponoi (Hawaii’s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place of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state that grows coffee is Hawa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’s alphabet has only 12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was formed from undersea volcanoes that erupted thousands of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5943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066680"/>
            <a:ext cx="471492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449568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hawai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tate Flag of Hawai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1523880"/>
            <a:ext cx="3600360" cy="2400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434340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Oklahoma College of Law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 State Flag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aii is make up of many islands, and the capital, Honolulu, is on the island of Oa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awaii’s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1295280" y="106668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95280" y="5334120"/>
            <a:ext cx="624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inbow Falls, Hilo H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60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a postcard from Hawaii. It shows a picture of Rainbow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295280"/>
            <a:ext cx="2057400" cy="197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3733920"/>
            <a:ext cx="3124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hawai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Hawaii’s state bird, the N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icture of Item"/>
          <p:cNvPicPr/>
          <p:nvPr/>
        </p:nvPicPr>
        <p:blipFill>
          <a:blip r:embed="rId4"/>
          <a:stretch/>
        </p:blipFill>
        <p:spPr>
          <a:xfrm>
            <a:off x="5715000" y="1523880"/>
            <a:ext cx="11080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24280" y="3733920"/>
            <a:ext cx="32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jewelrymall.com/stones/cor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228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waii’s state gem/gemstone is black coral. This is a picture of a coral neck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11:13Z</dcterms:modified>
  <cp:revision>14</cp:revision>
  <dc:subject/>
  <dc:title>Slide 1</dc:title>
</cp:coreProperties>
</file>